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7C78-0ED2-4C8F-BD7C-4A4BAB5B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8844-D88C-4A75-A535-38C7852F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6114-15B0-49BF-BCEA-9C14CD4E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A97-8E93-42A9-8832-3877EA17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9BFA-5EED-481F-B2F5-B9491169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31A2-B184-4228-A726-12853070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DDC3-D267-4618-BA64-67127C1C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D114-B4B9-4BE5-BE15-3335749C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5028-A333-42F2-BA0B-89E36BEA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EBC0-6D51-42C3-B2F3-840139D3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A323-FF7D-463E-B9A8-9FA56F70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C1B-D6E0-48D6-ACCE-5BA96B81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E395-7E7E-4006-8254-3DD307529B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504440" y="230040"/>
            <a:ext cx="723672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ُعَظِّمُ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إلهي المَلكْ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أُبارِك اسم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دى الدَهر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إلى الأب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27220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Arial"/>
                <a:cs typeface="????Boutros Rokaa"/>
              </a:rPr>
              <a:t>أعظمك يا إلهي الملك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803960" y="-3240"/>
            <a:ext cx="8258040" cy="691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رَبُّ صَالِح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لجمِيع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مَرَاحِمُهُ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لى كُلِّ صَنَائِعِهِ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504440" y="230040"/>
            <a:ext cx="723672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ُعَظِّمُ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إلهي المَلكْ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أُبارِك اسم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دى الدَهر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إلى الأب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566360" y="0"/>
            <a:ext cx="7085880" cy="691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رَبُّ أمِين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كُلِّ أقوالِه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بَارٌ في جَمِيع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عمَالِه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504440" y="230040"/>
            <a:ext cx="723672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ُعَظِّمُ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إلهي المَلكْ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أُبارِك اسم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دى الدَهر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إلى الأب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055160" y="44280"/>
            <a:ext cx="6217200" cy="733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لرَبُّ قَرِيبٌ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مِنْ جَميع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دُعَاتِه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1504440" y="230040"/>
            <a:ext cx="723672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ُعَظِّمُ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إلهي المَلكْ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أُبارِك اسم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دى الدَهر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إلى الأب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0:41:19Z</dcterms:created>
  <dc:creator>Charbel Azar</dc:creator>
  <dc:description/>
  <dc:language>en-US</dc:language>
  <cp:lastModifiedBy>-</cp:lastModifiedBy>
  <dcterms:modified xsi:type="dcterms:W3CDTF">2003-01-14T17:18:59Z</dcterms:modified>
  <cp:revision>10</cp:revision>
  <dc:subject/>
  <dc:title>Slide 1</dc:title>
</cp:coreProperties>
</file>